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88E17-B931-4939-B524-482EE9DC0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38978-6359-4BF6-ACFB-68758C2BE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C887C-2A2B-4E37-9D13-2F161AAF4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55968-D4EF-41D1-9769-D62D34722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3F336-91E9-4D18-BB72-AACC0F79A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F7059-AA33-4EC2-AFA0-B012560F8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17289-08CC-4BC0-AE6B-50AD66A1F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F81E0-D86F-4512-8E35-705900942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DBCA9-DCC3-4769-8519-29C90E618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5E5A4-D6AF-4803-8598-6F29D0B11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AB470-1F45-4B64-BEB0-D541AE060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87D47-33E7-4667-9566-A99CFC483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100000">
              <a:srgbClr val="4d0808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cccc"/>
              </a:solidFill>
              <a:latin typeface="Monotype Corsiv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cccc"/>
              </a:solidFill>
              <a:latin typeface="Monotype Corsiv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EDA91-207E-4EBC-9EBC-300B87B68A7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cccc"/>
              </a:solidFill>
              <a:latin typeface="Monotype Corsiv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s://dic.academic.ru/dic.nsf/ruwiki/71125" TargetMode="External"/><Relationship Id="rId2" Type="http://schemas.openxmlformats.org/officeDocument/2006/relationships/hyperlink" Target="https://kartaslov.ru/&#1079;&#1085;&#1072;&#1095;&#1077;&#1085;&#1080;&#1077;-&#1089;&#1083;&#1086;&#1074;&#1072;/&#1092;&#1083;&#1105;&#1088;&#1076;&#1086;&#1088;&#1072;&#1085;&#1078;" TargetMode="External"/><Relationship Id="rId3" Type="http://schemas.openxmlformats.org/officeDocument/2006/relationships/hyperlink" Target="https://kartaslov.ru/&#1079;&#1085;&#1072;&#1095;&#1077;&#1085;&#1080;&#1077;-&#1089;&#1083;&#1086;&#1074;&#1072;/&#1092;&#1083;&#1105;&#1088;&#1076;&#1086;&#1088;&#1072;&#1085;&#1078;" TargetMode="External"/><Relationship Id="rId4" Type="http://schemas.openxmlformats.org/officeDocument/2006/relationships/hyperlink" Target="https://bigenc.ru/religious_studies/text/5299404" TargetMode="External"/><Relationship Id="rId5" Type="http://schemas.openxmlformats.org/officeDocument/2006/relationships/hyperlink" Target="https://bigenc.ru/world_history/text/2355877" TargetMode="External"/><Relationship Id="rId6" Type="http://schemas.openxmlformats.org/officeDocument/2006/relationships/hyperlink" Target="https://bigenc.ru/world_history/text/2355877" TargetMode="External"/><Relationship Id="rId7" Type="http://schemas.openxmlformats.org/officeDocument/2006/relationships/hyperlink" Target="https://dic.academic.ru/dic.nsf/dic_fwords/29173/&#1055;&#1056;&#1048;&#1042;&#1040;&#1058;&#1053;&#1054;" TargetMode="External"/><Relationship Id="rId8" Type="http://schemas.openxmlformats.org/officeDocument/2006/relationships/hyperlink" Target="https://dic.academic.ru/dic.nsf/ruwiki/33459" TargetMode="External"/><Relationship Id="rId9" Type="http://schemas.openxmlformats.org/officeDocument/2006/relationships/hyperlink" Target="https://dic.academic.ru/dic.nsf/ruwiki/33459" TargetMode="External"/><Relationship Id="rId10" Type="http://schemas.openxmlformats.org/officeDocument/2006/relationships/hyperlink" Target="https://dic.academic.ru/dic.nsf/ruwiki/30367" TargetMode="External"/><Relationship Id="rId11" Type="http://schemas.openxmlformats.org/officeDocument/2006/relationships/hyperlink" Target="https://dic.academic.ru/dic.nsf/ruwiki/30367" TargetMode="External"/><Relationship Id="rId12" Type="http://schemas.openxmlformats.org/officeDocument/2006/relationships/hyperlink" Target="https://dic.academic.ru/dic.nsf/ruwiki/30359" TargetMode="External"/><Relationship Id="rId13" Type="http://schemas.openxmlformats.org/officeDocument/2006/relationships/hyperlink" Target="https://dic.academic.ru/dic.nsf/ruwiki/30359" TargetMode="External"/><Relationship Id="rId14" Type="http://schemas.openxmlformats.org/officeDocument/2006/relationships/hyperlink" Target="https://dic.academic.ru/dic.nsf/hist_dic/14890" TargetMode="External"/><Relationship Id="rId1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s://learningapps.org/display?v=pwfb7v1wc21" TargetMode="Externa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s://learningapps.org/display?v=p6v93wt0321" TargetMode="Externa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s://learningapps.org/display?v=p2rywvvq221" TargetMode="External"/><Relationship Id="rId2" Type="http://schemas.openxmlformats.org/officeDocument/2006/relationships/hyperlink" Target="https://learningapps.org/display?v=p2rywvvq221" TargetMode="External"/><Relationship Id="rId3" Type="http://schemas.openxmlformats.org/officeDocument/2006/relationships/hyperlink" Target="https://learningapps.org/display?v=p2rywvvq221" TargetMode="External"/><Relationship Id="rId4" Type="http://schemas.openxmlformats.org/officeDocument/2006/relationships/hyperlink" Target="https://learningapps.org/display?v=p2rywvvq221" TargetMode="External"/><Relationship Id="rId5" Type="http://schemas.openxmlformats.org/officeDocument/2006/relationships/hyperlink" Target="https://learningapps.org/display?v=p2rywvvq221" TargetMode="External"/><Relationship Id="rId6" Type="http://schemas.openxmlformats.org/officeDocument/2006/relationships/hyperlink" Target="https://learningapps.org/display?v=p2rywvvq221" TargetMode="External"/><Relationship Id="rId7" Type="http://schemas.openxmlformats.org/officeDocument/2006/relationships/hyperlink" Target="https://learningapps.org/display?v=p2rywvvq221" TargetMode="External"/><Relationship Id="rId8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s://learningapps.org/" TargetMode="External"/><Relationship Id="rId2" Type="http://schemas.openxmlformats.org/officeDocument/2006/relationships/hyperlink" Target="http://rebus1.com/" TargetMode="External"/><Relationship Id="rId3" Type="http://schemas.openxmlformats.org/officeDocument/2006/relationships/hyperlink" Target="http://rebus1.com/" TargetMode="External"/><Relationship Id="rId4" Type="http://schemas.openxmlformats.org/officeDocument/2006/relationships/hyperlink" Target="https://www.learnis.ru/" TargetMode="External"/><Relationship Id="rId5" Type="http://schemas.openxmlformats.org/officeDocument/2006/relationships/hyperlink" Target="https://sites.google.com/new" TargetMode="External"/><Relationship Id="rId6" Type="http://schemas.openxmlformats.org/officeDocument/2006/relationships/hyperlink" Target="https://sites.google.com/new" TargetMode="External"/><Relationship Id="rId7" Type="http://schemas.openxmlformats.org/officeDocument/2006/relationships/hyperlink" Target="https://sites.google.com/new" TargetMode="External"/><Relationship Id="rId8" Type="http://schemas.openxmlformats.org/officeDocument/2006/relationships/hyperlink" Target="https://sites.google.com/new" TargetMode="External"/><Relationship Id="rId9" Type="http://schemas.openxmlformats.org/officeDocument/2006/relationships/hyperlink" Target="https://sites.google.com/new" TargetMode="External"/><Relationship Id="rId10" Type="http://schemas.openxmlformats.org/officeDocument/2006/relationships/hyperlink" Target="https://sites.google.com/new" TargetMode="External"/><Relationship Id="rId11" Type="http://schemas.openxmlformats.org/officeDocument/2006/relationships/hyperlink" Target="https://sites.google.com/new" TargetMode="External"/><Relationship Id="rId12" Type="http://schemas.openxmlformats.org/officeDocument/2006/relationships/hyperlink" Target="https://sites.google.com/new" TargetMode="External"/><Relationship Id="rId13" Type="http://schemas.openxmlformats.org/officeDocument/2006/relationships/hyperlink" Target="https://sites.google.com/new" TargetMode="External"/><Relationship Id="rId14" Type="http://schemas.openxmlformats.org/officeDocument/2006/relationships/hyperlink" Target="https://app.onlinetestpad.com/" TargetMode="External"/><Relationship Id="rId15" Type="http://schemas.openxmlformats.org/officeDocument/2006/relationships/hyperlink" Target="https://app.onlinetestpad.com/" TargetMode="External"/><Relationship Id="rId16" Type="http://schemas.openxmlformats.org/officeDocument/2006/relationships/hyperlink" Target="https://app.onlinetestpad.com/" TargetMode="External"/><Relationship Id="rId17" Type="http://schemas.openxmlformats.org/officeDocument/2006/relationships/hyperlink" Target="https://app.onlinetestpad.com/" TargetMode="External"/><Relationship Id="rId18" Type="http://schemas.openxmlformats.org/officeDocument/2006/relationships/hyperlink" Target="https://app.onlinetestpad.com/" TargetMode="External"/><Relationship Id="rId19" Type="http://schemas.openxmlformats.org/officeDocument/2006/relationships/hyperlink" Target="https://app.onlinetestpad.com/" TargetMode="External"/><Relationship Id="rId20" Type="http://schemas.openxmlformats.org/officeDocument/2006/relationships/hyperlink" Target="https://app.onlinetestpad.com/" TargetMode="External"/><Relationship Id="rId21" Type="http://schemas.openxmlformats.org/officeDocument/2006/relationships/hyperlink" Target="https://app.onlinetestpad.com/" TargetMode="External"/><Relationship Id="rId2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C:/Users/&#1040;&#1076;&#1084;&#1080;&#1085;&#1080;&#1089;&#1090;&#1088;&#1072;&#1090;&#1086;&#1088;/Desktop/&#1074;&#1080;&#1076;&#1077;&#1086;%20&#1086;&#1090;&#1082;&#1088;&#1099;&#1090;&#1099;&#1081;%20&#1091;&#1088;&#1086;&#1082;%20&#1048;&#1085;&#1092;&#1086;&#1096;&#1082;&#1086;&#1083;&#1072;.mp4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s://learningapps.org/display?v=peyo8s29321" TargetMode="Externa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"/>
          <p:cNvSpPr/>
          <p:nvPr/>
        </p:nvSpPr>
        <p:spPr>
          <a:xfrm>
            <a:off x="324000" y="549360"/>
            <a:ext cx="417672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cc"/>
                </a:solidFill>
                <a:latin typeface="Monotype Corsiva"/>
              </a:rPr>
              <a:t>Современный урок:</a:t>
            </a:r>
            <a:endParaRPr b="0" i="1" lang="en-US" sz="4000" spc="-1" strike="noStrike">
              <a:solidFill>
                <a:srgbClr val="ffcccc"/>
              </a:solidFill>
              <a:latin typeface="Monotype Corsiv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cc"/>
                </a:solidFill>
                <a:latin typeface="Monotype Corsiva"/>
              </a:rPr>
              <a:t>Доступность и качество</a:t>
            </a:r>
            <a:endParaRPr b="0" i="1" lang="en-US" sz="4000" spc="-1" strike="noStrike">
              <a:solidFill>
                <a:srgbClr val="ffcccc"/>
              </a:solidFill>
              <a:latin typeface="Monotype Corsiva"/>
            </a:endParaRPr>
          </a:p>
        </p:txBody>
      </p:sp>
      <p:sp>
        <p:nvSpPr>
          <p:cNvPr id="42" name="Rectangle 10"/>
          <p:cNvSpPr/>
          <p:nvPr/>
        </p:nvSpPr>
        <p:spPr>
          <a:xfrm>
            <a:off x="611280" y="3357720"/>
            <a:ext cx="374472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Monotype Corsiva"/>
              </a:rPr>
              <a:t>Интерактивный урок литературы в 6 классе</a:t>
            </a:r>
            <a:endParaRPr b="0" i="1" lang="en-US" sz="2000" spc="-1" strike="noStrike">
              <a:solidFill>
                <a:srgbClr val="ffcccc"/>
              </a:solidFill>
              <a:latin typeface="Monotype Corsiv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Monotype Corsiva"/>
              </a:rPr>
              <a:t>«Сатирические и юмористические рассказы А. П. Чехова.</a:t>
            </a:r>
            <a:endParaRPr b="0" i="1" lang="en-US" sz="2000" spc="-1" strike="noStrike">
              <a:solidFill>
                <a:srgbClr val="ffcccc"/>
              </a:solidFill>
              <a:latin typeface="Monotype Corsiv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Monotype Corsiva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Monotype Corsiva"/>
              </a:rPr>
              <a:t>«Толстый и тонкий».</a:t>
            </a:r>
            <a:endParaRPr b="0" i="1" lang="en-US" sz="2000" spc="-1" strike="noStrike">
              <a:solidFill>
                <a:srgbClr val="ffcccc"/>
              </a:solidFill>
              <a:latin typeface="Monotype Corsiv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Monotype Corsiva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Monotype Corsiva"/>
              </a:rPr>
              <a:t>Тема, приемы создания комического эффекта»</a:t>
            </a:r>
            <a:endParaRPr b="0" i="1" lang="en-US" sz="2000" spc="-1" strike="noStrike">
              <a:solidFill>
                <a:srgbClr val="ffcccc"/>
              </a:solidFill>
              <a:latin typeface="Monotype Corsiv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99"/>
                </a:solidFill>
                <a:latin typeface="Monotype Corsiva"/>
              </a:rPr>
              <a:t>Выполнила: Качесова О.Ю.</a:t>
            </a:r>
            <a:endParaRPr b="0" i="1" lang="en-US" sz="1200" spc="-1" strike="noStrike">
              <a:solidFill>
                <a:srgbClr val="ffcccc"/>
              </a:solidFill>
              <a:latin typeface="Monotype Corsiv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99"/>
                </a:solidFill>
                <a:latin typeface="Monotype Corsiva"/>
              </a:rPr>
              <a:t>Учитель литературы МБОУ Николаевской СОШ им. Г. Е. Кучерявого</a:t>
            </a:r>
            <a:endParaRPr b="0" i="1" lang="en-US" sz="1200" spc="-1" strike="noStrike">
              <a:solidFill>
                <a:srgbClr val="ffcccc"/>
              </a:solidFill>
              <a:latin typeface="Monotype Corsiva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cccc"/>
              </a:solidFill>
              <a:latin typeface="Monotype Corsiva"/>
            </a:endParaRPr>
          </a:p>
        </p:txBody>
      </p:sp>
      <p:pic>
        <p:nvPicPr>
          <p:cNvPr id="43" name="Picture 12" descr="chehov"/>
          <p:cNvPicPr/>
          <p:nvPr/>
        </p:nvPicPr>
        <p:blipFill>
          <a:blip r:embed="rId1"/>
          <a:stretch/>
        </p:blipFill>
        <p:spPr>
          <a:xfrm>
            <a:off x="4524480" y="189000"/>
            <a:ext cx="4619520" cy="633564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2" descr="АП Чехов и Табель о рангах насколько Толстый обошел Тонкого"/>
          <p:cNvPicPr/>
          <p:nvPr/>
        </p:nvPicPr>
        <p:blipFill>
          <a:blip r:embed="rId1"/>
          <a:stretch/>
        </p:blipFill>
        <p:spPr>
          <a:xfrm>
            <a:off x="1908000" y="692280"/>
            <a:ext cx="5256360" cy="4971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6" dur="2000" fill="hold"/>
                                        <p:tgtEl>
                                          <p:spTgt spid="6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Тема уро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атирические и юмористические рассказы А. П. Чехо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«Толстый и тонкий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ема, приемы создания комического эффек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Цель уро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нализируя рассказ “Толстый и тонкий”, мы постараемся вчитываться в текст, то есть заглянем в мастерскую писателя, узнаем способы передачи основной мыс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Антитеза-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тилистическая фигура контраста в художественной или ораторской речи, заключающаяся в резком противопоставлении понят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ловарная рабо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хере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флёрдоранж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лютеранка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Герострат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приватно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коллежский асессор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статский советник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тайный советник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ЭФИАЛЬТ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гра «Найди соответствие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s://learningapps.org/display?v=pwfb7v1wc21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179280" y="549360"/>
          <a:ext cx="8785440" cy="5991120"/>
        </p:xfrm>
        <a:graphic>
          <a:graphicData uri="http://schemas.openxmlformats.org/drawingml/2006/table">
            <a:tbl>
              <a:tblPr/>
              <a:tblGrid>
                <a:gridCol w="3390840"/>
                <a:gridCol w="2767320"/>
                <a:gridCol w="2627280"/>
              </a:tblGrid>
              <a:tr h="1312920"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Линии сравнения</a:t>
                      </a:r>
                      <a:endParaRPr b="0" i="1" lang="en-US" sz="1400" spc="-1" strike="noStrike">
                        <a:solidFill>
                          <a:srgbClr val="ffcccc"/>
                        </a:solidFill>
                        <a:latin typeface="Monotype Corsiva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“</a:t>
                      </a:r>
                      <a:r>
                        <a:rPr b="1" lang="ru-RU" sz="14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Толстый” во 2-ой части рассказа</a:t>
                      </a:r>
                      <a:endParaRPr b="0" i="1" lang="en-US" sz="1400" spc="-1" strike="noStrike">
                        <a:solidFill>
                          <a:srgbClr val="ffcccc"/>
                        </a:solidFill>
                        <a:latin typeface="Monotype Corsiva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“</a:t>
                      </a:r>
                      <a:r>
                        <a:rPr b="1" lang="ru-RU" sz="14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Тонкий” во 2-ой части рассказа</a:t>
                      </a:r>
                      <a:endParaRPr b="0" i="1" lang="en-US" sz="1400" spc="-1" strike="noStrike">
                        <a:solidFill>
                          <a:srgbClr val="ffcccc"/>
                        </a:solidFill>
                        <a:latin typeface="Monotype Corsiva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312560"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1. Глаголы внутреннего состояния героев.</a:t>
                      </a:r>
                      <a:endParaRPr b="0" i="1" lang="en-US" sz="1400" spc="-1" strike="noStrike">
                        <a:solidFill>
                          <a:srgbClr val="ffcccc"/>
                        </a:solidFill>
                        <a:latin typeface="Monotype Corsiva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 </a:t>
                      </a:r>
                      <a:endParaRPr b="0" i="1" lang="en-US" sz="1400" spc="-1" strike="noStrike">
                        <a:solidFill>
                          <a:srgbClr val="ffcccc"/>
                        </a:solidFill>
                        <a:latin typeface="Monotype Corsiva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 </a:t>
                      </a:r>
                      <a:endParaRPr b="0" i="1" lang="en-US" sz="1400" spc="-1" strike="noStrike">
                        <a:solidFill>
                          <a:srgbClr val="ffcccc"/>
                        </a:solidFill>
                        <a:latin typeface="Monotype Corsiva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739800"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2. Мимика, жесты, поза.</a:t>
                      </a:r>
                      <a:endParaRPr b="0" i="1" lang="en-US" sz="1400" spc="-1" strike="noStrike">
                        <a:solidFill>
                          <a:srgbClr val="ffcccc"/>
                        </a:solidFill>
                        <a:latin typeface="Monotype Corsiva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 </a:t>
                      </a:r>
                      <a:endParaRPr b="0" i="1" lang="en-US" sz="1400" spc="-1" strike="noStrike">
                        <a:solidFill>
                          <a:srgbClr val="ffcccc"/>
                        </a:solidFill>
                        <a:latin typeface="Monotype Corsiva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 </a:t>
                      </a:r>
                      <a:endParaRPr b="0" i="1" lang="en-US" sz="1400" spc="-1" strike="noStrike">
                        <a:solidFill>
                          <a:srgbClr val="ffcccc"/>
                        </a:solidFill>
                        <a:latin typeface="Monotype Corsiva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312920"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3. Знаки препинания в конце предложений.</a:t>
                      </a:r>
                      <a:endParaRPr b="0" i="1" lang="en-US" sz="1400" spc="-1" strike="noStrike">
                        <a:solidFill>
                          <a:srgbClr val="ffcccc"/>
                        </a:solidFill>
                        <a:latin typeface="Monotype Corsiva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 </a:t>
                      </a:r>
                      <a:endParaRPr b="0" i="1" lang="en-US" sz="1400" spc="-1" strike="noStrike">
                        <a:solidFill>
                          <a:srgbClr val="ffcccc"/>
                        </a:solidFill>
                        <a:latin typeface="Monotype Corsiva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 </a:t>
                      </a:r>
                      <a:endParaRPr b="0" i="1" lang="en-US" sz="1400" spc="-1" strike="noStrike">
                        <a:solidFill>
                          <a:srgbClr val="ffcccc"/>
                        </a:solidFill>
                        <a:latin typeface="Monotype Corsiva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1312920"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4. Обращение героев друг к другу.</a:t>
                      </a:r>
                      <a:endParaRPr b="0" i="1" lang="en-US" sz="1400" spc="-1" strike="noStrike">
                        <a:solidFill>
                          <a:srgbClr val="ffcccc"/>
                        </a:solidFill>
                        <a:latin typeface="Monotype Corsiva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 </a:t>
                      </a:r>
                      <a:endParaRPr b="0" i="1" lang="en-US" sz="1400" spc="-1" strike="noStrike">
                        <a:solidFill>
                          <a:srgbClr val="ffcccc"/>
                        </a:solidFill>
                        <a:latin typeface="Monotype Corsiva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 </a:t>
                      </a:r>
                      <a:endParaRPr b="0" i="1" lang="en-US" sz="1400" spc="-1" strike="noStrike">
                        <a:solidFill>
                          <a:srgbClr val="ffcccc"/>
                        </a:solidFill>
                        <a:latin typeface="Monotype Corsiva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Упражнение «Выбери верный ответ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s://learningapps.org/display?v=p6v93wt0321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14" descr="гьньн"/>
          <p:cNvPicPr/>
          <p:nvPr/>
        </p:nvPicPr>
        <p:blipFill>
          <a:blip r:embed="rId1"/>
          <a:stretch/>
        </p:blipFill>
        <p:spPr>
          <a:xfrm>
            <a:off x="285840" y="785880"/>
            <a:ext cx="2612880" cy="3960720"/>
          </a:xfrm>
          <a:prstGeom prst="rect">
            <a:avLst/>
          </a:prstGeom>
          <a:ln w="0">
            <a:noFill/>
          </a:ln>
        </p:spPr>
      </p:pic>
      <p:sp>
        <p:nvSpPr>
          <p:cNvPr id="77" name="Text Box 15"/>
          <p:cNvSpPr/>
          <p:nvPr/>
        </p:nvSpPr>
        <p:spPr>
          <a:xfrm>
            <a:off x="4140360" y="692280"/>
            <a:ext cx="4392360" cy="61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Чинопочитание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лицемерное отношение к старшим по должности, званию.</a:t>
            </a:r>
            <a:endParaRPr b="0" i="1" lang="en-US" sz="2400" spc="-1" strike="noStrike">
              <a:solidFill>
                <a:srgbClr val="ffcccc"/>
              </a:solidFill>
              <a:latin typeface="Monotype Corsiva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Подобострастие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льстивость, угодливость.</a:t>
            </a:r>
            <a:endParaRPr b="0" i="1" lang="en-US" sz="2400" spc="-1" strike="noStrike">
              <a:solidFill>
                <a:srgbClr val="ffcccc"/>
              </a:solidFill>
              <a:latin typeface="Monotype Corsiva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Угодничество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льстивое поведение.</a:t>
            </a:r>
            <a:endParaRPr b="0" i="1" lang="en-US" sz="2400" spc="-1" strike="noStrike">
              <a:solidFill>
                <a:srgbClr val="ffcccc"/>
              </a:solidFill>
              <a:latin typeface="Monotype Corsiva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Самоуничижение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признание себя ничтожным.</a:t>
            </a:r>
            <a:endParaRPr b="0" i="1" lang="en-US" sz="2400" spc="-1" strike="noStrike">
              <a:solidFill>
                <a:srgbClr val="ffcccc"/>
              </a:solidFill>
              <a:latin typeface="Monotype Corsiva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Подхалимство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стремление расположить к себе кого-то лестью.</a:t>
            </a:r>
            <a:endParaRPr b="0" i="1" lang="en-US" sz="2400" spc="-1" strike="noStrike">
              <a:solidFill>
                <a:srgbClr val="ffcccc"/>
              </a:solidFill>
              <a:latin typeface="Monotype Corsiva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cccc"/>
              </a:solidFill>
              <a:latin typeface="Monotype Corsiva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7" dur="2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1" dur="20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5" dur="20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9" dur="20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3" dur="20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Box 1"/>
          <p:cNvSpPr/>
          <p:nvPr/>
        </p:nvSpPr>
        <p:spPr>
          <a:xfrm>
            <a:off x="428760" y="1214280"/>
            <a:ext cx="8501040" cy="429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cccc"/>
              </a:solidFill>
              <a:latin typeface="Monotype Corsiva"/>
            </a:endParaRPr>
          </a:p>
          <a:p>
            <a:pPr>
              <a:spcBef>
                <a:spcPts val="799"/>
              </a:spcBef>
              <a:buClr>
                <a:srgbClr val="0099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Monotype Corsiva"/>
              </a:rPr>
              <a:t>ЮМОР (англ.) – изображение чего-то в смешном, комическом виде. </a:t>
            </a:r>
            <a:endParaRPr b="0" i="1" lang="en-US" sz="3200" spc="-1" strike="noStrike">
              <a:solidFill>
                <a:srgbClr val="ffcccc"/>
              </a:solidFill>
              <a:latin typeface="Monotype Corsiv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cccc"/>
              </a:solidFill>
              <a:latin typeface="Monotype Corsiva"/>
            </a:endParaRPr>
          </a:p>
          <a:p>
            <a:pPr>
              <a:spcBef>
                <a:spcPts val="799"/>
              </a:spcBef>
              <a:buClr>
                <a:srgbClr val="0099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Monotype Corsiva"/>
              </a:rPr>
              <a:t>САТИРА (лат.)  - обличение  людских пороков и недостатков жизни, отрицательных явлений действительности.</a:t>
            </a:r>
            <a:endParaRPr b="0" i="1" lang="en-US" sz="3200" spc="-1" strike="noStrike">
              <a:solidFill>
                <a:srgbClr val="ffcccc"/>
              </a:solidFill>
              <a:latin typeface="Monotype Corsiva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500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Цель  уро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здавать условия для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рганизации различных видов детской деятельности средствами системно-деятельностного и частично-поискового подходов с помощью использования интерактивных форм обуч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12" descr=""/>
          <p:cNvPicPr/>
          <p:nvPr/>
        </p:nvPicPr>
        <p:blipFill>
          <a:blip r:embed="rId1"/>
          <a:stretch/>
        </p:blipFill>
        <p:spPr>
          <a:xfrm>
            <a:off x="468360" y="189000"/>
            <a:ext cx="8207280" cy="619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s</a:t>
            </a: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://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learningapps</a:t>
            </a: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.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org</a:t>
            </a: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/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display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v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=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2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rywvvq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22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ельский учитель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p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12" descr="File17-3"/>
          <p:cNvPicPr/>
          <p:nvPr/>
        </p:nvPicPr>
        <p:blipFill>
          <a:blip r:embed="rId1"/>
          <a:stretch/>
        </p:blipFill>
        <p:spPr>
          <a:xfrm>
            <a:off x="179280" y="620640"/>
            <a:ext cx="3961080" cy="540072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3995280" y="1628640"/>
            <a:ext cx="5483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Его я часто вспоминаю.</a:t>
            </a: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Вот и теперь передо мной</a:t>
            </a: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Стоит он, точно как живой,</a:t>
            </a: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Такой, каким его я так люблю и знаю:</a:t>
            </a: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Сухие, тонкие черты,</a:t>
            </a: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Волос седеющие пряди</a:t>
            </a: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И эта грусть в глубоком взгляде,</a:t>
            </a: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Сосредоточенном и полном доброты.</a:t>
            </a: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Больной и бесконечно милый, </a:t>
            </a: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Он был похож на первоцвет,</a:t>
            </a: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Сквозь снег пробившийся на св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А.Фёдор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чебные задачи, направленные на достижение личностных результатов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зучить информированность учащихся о безопасной работе в сети Интернет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знакомить с правилами безопасной работы в сети Интернет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учить ориентироваться в информационном пространстве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ормировать информационную культуру учащихся, развивать критическое мышле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чебные задачи, направленные на достижение метапредметных  результатов обучения: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знавательны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формировать умение извлекать информацию из различных источник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выявлять сущность, особенности объект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обобщать и классифицировать их по признака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егулятивны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формировать  умения прогнозировать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развивать умение высказывать своё мнение на основе работы с    материало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формировать умение осуществлять познавательную и коммуникативную рефлекси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ммуникативны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развивать умение слушать и понимать учителя и  сверстник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оформлять свои мысли в устной форм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ланируемый результат: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редметные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— наличие основных представлений об организации и функционировании компьютерной сети Интернет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метапредметные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— представления о компьютерных сетях распространения и обмена информацией, об использовании информационных ресурсов общества с соблюдением соответствующих правовых и этических норм, требований информационной безопасност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личностные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— развитие чувства личной ответственности за качество окружающей информационной сре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ограммная среда, редактор, в котором выполнен продук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S Office Power Poin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 использованием электронных ресурсов, сервис создания интерактивных упражнений Learning Apps (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s://learningapps.org/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сервис генерирования ребусов (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rebus1.com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/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разовательная платформа Learnis (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s://www.learnis.ru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айты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gle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s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://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sites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.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google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.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com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/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new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стем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ine Test Pad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https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://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app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.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onlinetestpad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.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0"/>
              </a:rPr>
              <a:t>com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21"/>
              </a:rPr>
              <a:t>/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Филлворд «Биография А.П.Чехова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s://learningapps.org/display?v=peyo8s29321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Особенности рассказов Чехов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964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роткое вступлени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т подробного описания пейзажа, портрет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яркие художественные детал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снова рассказа – диало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07T16:18:24Z</dcterms:created>
  <dc:creator>Гуляева Оксана Олеговна</dc:creator>
  <dc:description/>
  <dc:language>en-US</dc:language>
  <cp:lastModifiedBy>XTreme.ws</cp:lastModifiedBy>
  <dcterms:modified xsi:type="dcterms:W3CDTF">2021-12-16T03:43:48Z</dcterms:modified>
  <cp:revision>66</cp:revision>
  <dc:subject>"В человеке всё должно быть прекрасно..." (Страницы жизни и творчества А.П.Чехова)</dc:subject>
  <dc:title>Урок-презентаци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9</vt:r8>
  </property>
</Properties>
</file>